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move the slide</a:t>
            </a:r>
            <a:endParaRPr b="0" lang="en-US" sz="4400" spc="-1" strike="noStrike">
              <a:solidFill>
                <a:srgbClr val="0d0d0d"/>
              </a:solidFill>
              <a:latin typeface="Bell MT"/>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09D2-68CF-40FF-9305-E2E3163202A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ary Grace Cavalla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iversità degli Studi di Mila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LAG DAY JUNE 14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ry Grace Cavalla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versità degli Studi di Mil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FLAG DAY JUNE 14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 had 13 stripes: red and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lors  represented the 13 original colonies and it was first flown on New Year’s Day in 1776 to celebrate the Army’s  form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 had 13 stripes: red and whi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rs  represented the 13 original colonies and it was first flown on New Year’s Day in 1776 to celebrate the Army’s  formation.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tsy Ross made (actually sewed) the original flag with 13 stars and 13 stripes ba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nding fathers did not offically adopt the flag until June 14, 1777, almost a year after the signing of the Declaration of Indepen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tsy Ross made (actually sewed) the original flag with 13 stars and 13 stripes bann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ing fathers did not offically adopt the flag until June 14, 1777, almost a year after the signing of the Declaration of Independ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flag had 13 white stars in a circle on a blue background with 13 red and white stri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represented the constellation of the State rising in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background stood for the virtues of vigilance, perseverance and jus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were in a circle to represent the Un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3 stripes stood for the 13 original col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red symbolizes the newly formed country’s defiance  towards England and cou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symbolized purity and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flag had 13 white stars in a circle on a blue background with 13 red and white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represented the constellation of the State rising in the W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ue background stood for the virtues of vigilance, perseverance and justi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were in a circle to represent the Un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13 stripes stood for the 13 original col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 red symbolizes the newly formed country’s defiance  towards England and cour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symbolized purity and lib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Flag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ficial Flag Day celebration was June 14th, 1861 Later in history, President Woodrow Wilson proclaimed June 14th as “Flag Day” in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Flag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official Flag Day celebration was June 14th, 1861 Later in history, President Woodrow Wilson proclaimed June 14th as “Flag Day” in 191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questions for follow up exerci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synonym for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represent, along with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first flag created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questions for follow up exercis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a synonym for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represent, along with the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as the first flag created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something about your countr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of your flag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S flag have in common with your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your flag flown in your country and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type of similar patriotism in your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now something about your count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of your flag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es the US flag have in common with your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is your flag flown in your country and wh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you have any type of similar patriotism in your count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E340B-2C0E-4144-8AC7-7CAA4B9EE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B19AA-549F-416F-B4BE-01CD77062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F38C43-C09D-4A66-A29A-7C076F1592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C29478-EE88-45EA-BB1C-BA2F213348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6BAE58-245C-49A3-8815-4C319A3F64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FB0C02-96B1-4420-8F58-64FF358F7D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228DEF-2291-4332-8853-9AA57142E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6CCC10-E100-4ACE-8F74-5B1C9ACBB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487401-1454-4C6F-B972-5C3FE4300D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DFA80B-F0FA-4050-BEE6-EE2D173B05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29EF02-9634-4ED3-B4F5-6B128B16F1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60FFB5-991B-4316-B687-117A4A2BB3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BFFD9-54F4-48CF-98E5-EB3F593CA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E2EBEB-0A96-4800-B549-9371A0A107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00308E-DC5B-45C3-91A2-2F50F3C16D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67A03A-CF77-4446-A915-4A5AC6324C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690C8F-7D16-4E24-B6E9-2B3AFC3198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BA8F91-C99D-4667-A955-118B56529F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5E694B-81CE-44DE-81B1-D00C94AE92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6233FD-F91E-4591-98FF-4777267123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88B892-0DE9-4484-A5F8-37A8391400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3F852D-125E-4BEA-B814-FC71E73128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3F619D-5309-4FF1-9D60-C6C2F6D28B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D5DA0-1F0C-4C08-8665-3379C6D3F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0DE01A-DD5C-4FA6-9594-AD2E7AACB8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43804-03F9-4660-91C4-9F0F83307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9B8D0-8F72-4FBE-8F01-CB6961F5C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057EC-1805-4327-9697-00BC31B8C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03317-F55E-491D-88EA-E86C87B90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19077-02A2-4CAD-80FE-5B23B558D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79487-491E-4D86-9075-03CF41ED2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423B0-3355-491E-835F-3256F5D1F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5ECE4-A725-40DB-A878-9C843FDAF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95D1F-C4BA-45F1-802B-6A64FD8C3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39C79-1E5A-4A9A-A9CB-29FF967CD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56A79-4F64-462C-A172-A64757EC1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5AD1F-417E-47BF-8E47-1108F6BE9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7A785-2379-4D93-8645-C6103BE67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5F0BC2-9D14-4E9B-B3F2-C17AEE8B0E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3CA3C-4951-4EF4-B776-40D1978BE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352D51-B2F9-425C-B2D8-902544C59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EE16D-71EA-4D33-8F00-1898225F7C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A8FB72-FC94-4E01-9209-1199DDE4F6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59417-48F8-44C1-B9E3-9D4ABFD40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4F3DE3-6C9A-4358-B11B-428DCB9CFB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C1136-8ABD-4672-A255-9D20FA263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4D5A9-3D9B-4516-A2B1-54A915499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023EAB-455D-45A9-AC80-98402B015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CE4AB-54A2-4206-A343-B92A61F0E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AEB6DA-DD16-4FB6-8DA9-EED561331C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C0A68F-9EBC-4F29-B6F5-AE560BEB07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0BBEDD-530C-42CB-84AA-0E13D501A2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09465-6362-41F3-8604-CD66BF245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A91845-9B9A-413D-BDE8-4CD224545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76940-BA00-4333-AA81-D52BF0AC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6C04D4-19E8-46A4-BA3B-E4470454AB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6E963B-DEC9-4021-9BB5-D07BEECE6E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7B20C-96D9-44BE-9FD8-E89A85095D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BED73-3D17-47DE-B450-BB78C7199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62197-D846-4D3E-B9A1-710239365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FFC2F-EC02-4768-AF3C-874C4D19F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8596BB-0655-4082-B24C-590B04CEE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0B962D-212D-451A-8055-C2DDF0135B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8AF7AE-94DE-4632-8F76-85ABB3EFFF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5D2DE5-96B0-40EB-A4DC-DF15E7CBFD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7C545-1090-435A-BB9B-8A1342275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AD2B92-258E-43CF-8119-249C366D17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908F1A-0AB8-443A-8B3A-84E105B0A3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8B7307-919F-4EAD-AC98-3A4B1FA40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8A441B-9112-4CA2-9D95-D2A0094A5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8C30C9-81F0-45D8-8D4B-076D91ADB0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F9BD3B-B92A-403D-8B0E-481DCA86F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DFCC7-816E-4AB9-A93B-72EF7288D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652CFC-A1F8-4C67-AC33-40B755448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57761-07ED-41F9-B7EF-5E24DAE903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064F29-E76D-45C4-859A-241F541553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84E8C-092D-4564-9F29-11F6CCA9B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1F790C-3BB3-4A74-AC50-93469052D0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C972E0-5DC2-4DE8-A9E1-45FD1CB16B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F9A219-68A6-43AA-B5B7-89D8E4F7B3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0C1D88-139E-4E72-8FCA-A14EEAB6E0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0BC1F6-F45B-491A-8F6D-C869E9009A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F534C5-E67C-44B9-A993-51176BF569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DE796F-F1FC-4725-BBE8-5D25E7E9EE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93999-0B9B-4998-BEF4-5A5C7C5A29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AE4831-ABC8-4CB0-A159-4D1F6B2333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A1178-D7E2-41EF-8D74-9C3B0DFDD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827AA-7439-4917-A6A3-64DD6F365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05BD59-9096-4C08-BBFE-7FA7C00CEE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391531-E38D-4644-96EB-6E41A88360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8B2A0A-D031-470B-BF74-586D987DC2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B511BD-D007-427D-8101-B75709BE4A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036501-922C-4E48-8514-82EFD62937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1F1254-41D7-41E6-820B-52A1204FFA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5F3D83-EF4F-4349-93A7-51A0483EF1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6056B3-33B6-4E76-839E-4F20909C7B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0DF76B-7873-48BD-AA91-40F381C57E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E1314F-9409-4FFC-9F7D-A367EC9E84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7D3A-453D-4EF0-AF44-E93A35A55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1845E9-54A3-41B3-BE78-7CBD47452D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2BD81C-D0B9-449C-812B-1427118757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D5E983-0F3E-47DF-95B0-06C9356F1A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ECC8AC-5997-4CB3-91F1-1AEC474F5A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D35D7C-5738-426C-B7D8-5CF6801935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F79912-245C-4986-A2E5-1EA7B91A8A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5F6E39-C15B-4004-A11C-3E90AA8C7E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07B441-B453-4C9C-98D4-468721419F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E87389-8A78-4CF7-A58B-3A085DC842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0E4CFE-C581-4C2F-B2A2-B1A9C6416B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8898E-7B3E-4942-955F-0EFD973EA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38AB82-0B81-45D6-BA01-7C0D8FB243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292717-DA6B-4477-B50F-FBEF856443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6D228-5633-45F0-B582-F398E56F67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77241A-2665-4B72-A0F7-63A75A2F8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0F9340-3591-46D1-9AC3-94F6CC10AA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715522-BB37-48F8-A772-BD0F1D726D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A9CAA2-86A4-4437-850C-4DE75A2A4D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B8648C-A6C0-487F-BD9C-91A7F4A64E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6D7F9C-9C70-4319-8F16-008BE79CE9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974641-00AA-46D4-A7E2-E2CC653D61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2" name="PlaceHolder 3"/>
          <p:cNvSpPr>
            <a:spLocks noGrp="1"/>
          </p:cNvSpPr>
          <p:nvPr>
            <p:ph type="dt" idx="1"/>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3248-1D6D-4099-825B-770D219A1F3B}" type="datetime">
              <a:rPr b="0" lang="it-IT" sz="1200" spc="-1" strike="noStrike">
                <a:solidFill>
                  <a:srgbClr val="0d0d0d"/>
                </a:solidFill>
                <a:latin typeface="Bell MT"/>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d0d0d"/>
                </a:solidFill>
                <a:latin typeface="Bell MT"/>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C2A1-89FF-4AFA-80D4-760F50E912EB}" type="slidenum">
              <a:rPr b="0" lang="it-IT" sz="1200" spc="-1" strike="noStrike">
                <a:solidFill>
                  <a:srgbClr val="0d0d0d"/>
                </a:solidFill>
                <a:latin typeface="Bell MT"/>
              </a:rPr>
              <a:t>&lt;number&gt;</a:t>
            </a:fld>
            <a:endParaRPr b="0" lang="en-US" sz="1200" spc="-1" strike="noStrike">
              <a:solidFill>
                <a:srgbClr val="000000"/>
              </a:solidFill>
              <a:latin typeface="Times New Roman"/>
            </a:endParaRPr>
          </a:p>
        </p:txBody>
      </p:sp>
      <p:pic>
        <p:nvPicPr>
          <p:cNvPr id="5" name="Picture 8" descr="D:\tutti-dati\back up\pc\logo1_mod1\logo trasparente.gif"/>
          <p:cNvPicPr/>
          <p:nvPr/>
        </p:nvPicPr>
        <p:blipFill>
          <a:blip r:embed="rId3"/>
          <a:stretch/>
        </p:blipFill>
        <p:spPr>
          <a:xfrm>
            <a:off x="8028000" y="5446800"/>
            <a:ext cx="668160" cy="11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375"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pic>
        <p:nvPicPr>
          <p:cNvPr id="376" name="Picture 2" descr="C:\Documents and Settings\roby\Desktop\Inserire Titolo\Diapositiva1.JPG"/>
          <p:cNvPicPr/>
          <p:nvPr/>
        </p:nvPicPr>
        <p:blipFill>
          <a:blip r:embed="rId4"/>
          <a:stretch/>
        </p:blipFill>
        <p:spPr>
          <a:xfrm>
            <a:off x="0" y="4495680"/>
            <a:ext cx="9144000" cy="2362320"/>
          </a:xfrm>
          <a:prstGeom prst="rect">
            <a:avLst/>
          </a:prstGeom>
          <a:ln w="0">
            <a:noFill/>
          </a:ln>
        </p:spPr>
      </p:pic>
      <p:pic>
        <p:nvPicPr>
          <p:cNvPr id="377" name="Picture 4" descr="C:\tutti-dati\back up\pc\logo1_mod1\intestazione.jpg"/>
          <p:cNvPicPr/>
          <p:nvPr/>
        </p:nvPicPr>
        <p:blipFill>
          <a:blip r:embed="rId5"/>
          <a:stretch/>
        </p:blipFill>
        <p:spPr>
          <a:xfrm>
            <a:off x="3995640" y="260280"/>
            <a:ext cx="4807080" cy="1285920"/>
          </a:xfrm>
          <a:prstGeom prst="rect">
            <a:avLst/>
          </a:prstGeom>
          <a:ln w="0">
            <a:noFill/>
          </a:ln>
        </p:spPr>
      </p:pic>
      <p:pic>
        <p:nvPicPr>
          <p:cNvPr id="378" name="Picture 8" descr="D:\tutti-dati\back up\pc\logo1_mod1\logo trasparente.gif"/>
          <p:cNvPicPr/>
          <p:nvPr/>
        </p:nvPicPr>
        <p:blipFill>
          <a:blip r:embed="rId6"/>
          <a:stretch/>
        </p:blipFill>
        <p:spPr>
          <a:xfrm>
            <a:off x="8244000" y="5445000"/>
            <a:ext cx="668160" cy="114804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81" name="PlaceHolder 3"/>
          <p:cNvSpPr>
            <a:spLocks noGrp="1"/>
          </p:cNvSpPr>
          <p:nvPr>
            <p:ph type="dt" idx="28"/>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1760-156F-4A01-B8EC-B8A856C7E4C2}" type="datetime">
              <a:rPr b="0" lang="it-IT" sz="2400" spc="-1" strike="noStrike">
                <a:solidFill>
                  <a:srgbClr val="ffffff"/>
                </a:solidFill>
                <a:latin typeface="Bell MT"/>
              </a:rPr>
              <a:t>29/07/26</a:t>
            </a:fld>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F59B-7531-4EAD-BB1E-058302B7EF73}" type="slidenum">
              <a:rPr b="0" lang="it-IT" sz="2400" spc="-1" strike="noStrike">
                <a:solidFill>
                  <a:srgbClr val="ffffff"/>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07FD-D6E7-4952-9B24-CA4AF6064E6E}"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2B91-F014-4264-A1A5-10D3AD3734D3}"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6896-2F3E-4E03-AD91-E6176052F5CC}"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202C-9CD1-4154-882D-B9B9D010973C}"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A9F5-5D97-4695-B7D6-8A531EC579AE}"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9A28-A25B-4663-99FA-DBE845B40F02}"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167" name="PlaceHolder 3"/>
          <p:cNvSpPr>
            <a:spLocks noGrp="1"/>
          </p:cNvSpPr>
          <p:nvPr>
            <p:ph type="dt" idx="13"/>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54A3-8A8A-44D4-A58B-4F5CBDAF32DD}" type="datetime">
              <a:rPr b="0" lang="it-IT" sz="1200" spc="-1" strike="noStrike">
                <a:solidFill>
                  <a:srgbClr val="ffffff"/>
                </a:solidFill>
                <a:latin typeface="Bell MT"/>
              </a:rPr>
              <a:t>29/07/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624D-4AC6-4CE3-ABD3-3BEB7B990250}" type="slidenum">
              <a:rPr b="0" lang="it-IT" sz="1200" spc="-1" strike="noStrike">
                <a:solidFill>
                  <a:srgbClr val="ffffff"/>
                </a:solidFill>
                <a:latin typeface="Bell MT"/>
              </a:rPr>
              <a:t>&lt;number&gt;</a:t>
            </a:fld>
            <a:endParaRPr b="0" lang="en-US" sz="1200" spc="-1" strike="noStrike">
              <a:solidFill>
                <a:srgbClr val="000000"/>
              </a:solidFill>
              <a:latin typeface="Times New Roman"/>
            </a:endParaRPr>
          </a:p>
        </p:txBody>
      </p:sp>
      <p:pic>
        <p:nvPicPr>
          <p:cNvPr id="170"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171"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55E1-A504-4A5F-93A9-BB86EF80A660}"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EB81-D845-466A-A7E0-A8AA51D8AA25}"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74A5-85A3-4CB8-A5BC-65BB69CCE739}"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5FE2-8A18-486A-8EA8-6C96EF32097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8B4F-E6C1-4331-B669-872B13D80C3B}"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A0F6-A91E-4588-80C9-44A3579A603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8" descr="D:\tutti-dati\back up\pc\logo1_mod1\logo trasparente.gif"/>
          <p:cNvPicPr/>
          <p:nvPr/>
        </p:nvPicPr>
        <p:blipFill>
          <a:blip r:embed="rId3"/>
          <a:stretch/>
        </p:blipFill>
        <p:spPr>
          <a:xfrm>
            <a:off x="8028000" y="5446800"/>
            <a:ext cx="668160" cy="1147680"/>
          </a:xfrm>
          <a:prstGeom prst="rect">
            <a:avLst/>
          </a:prstGeom>
          <a:ln w="0">
            <a:noFill/>
          </a:ln>
        </p:spPr>
      </p:pic>
      <p:pic>
        <p:nvPicPr>
          <p:cNvPr id="332" name="Picture 4" descr="C:\tutti-dati\back up\pc\logo1_mod1\intestazione.jpg"/>
          <p:cNvPicPr/>
          <p:nvPr/>
        </p:nvPicPr>
        <p:blipFill>
          <a:blip r:embed="rId4"/>
          <a:stretch/>
        </p:blipFill>
        <p:spPr>
          <a:xfrm>
            <a:off x="3995640" y="260280"/>
            <a:ext cx="4807080" cy="12859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35" name="PlaceHolder 3"/>
          <p:cNvSpPr>
            <a:spLocks noGrp="1"/>
          </p:cNvSpPr>
          <p:nvPr>
            <p:ph type="dt" idx="25"/>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4EC0-9384-49C6-A16E-128EEACDC011}" type="datetime">
              <a:rPr b="0" lang="it-IT" sz="2400" spc="-1" strike="noStrike">
                <a:solidFill>
                  <a:srgbClr val="0d0d0d"/>
                </a:solidFill>
                <a:latin typeface="Bell MT"/>
              </a:rPr>
              <a:t>29/07/26</a:t>
            </a:fld>
            <a:endParaRPr b="0" lang="en-US" sz="2400" spc="-1" strike="noStrike">
              <a:solidFill>
                <a:srgbClr val="000000"/>
              </a:solidFill>
              <a:latin typeface="Times New Roman"/>
            </a:endParaRPr>
          </a:p>
        </p:txBody>
      </p:sp>
      <p:sp>
        <p:nvSpPr>
          <p:cNvPr id="336" name="PlaceHolder 4"/>
          <p:cNvSpPr>
            <a:spLocks noGrp="1"/>
          </p:cNvSpPr>
          <p:nvPr>
            <p:ph type="ftr" idx="26"/>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ww.sliderbase.com</a:t>
            </a:r>
            <a:endParaRPr b="0" lang="en-US" sz="2400" spc="-1" strike="noStrike">
              <a:solidFill>
                <a:srgbClr val="000000"/>
              </a:solidFill>
              <a:latin typeface="Times New Roman"/>
            </a:endParaRPr>
          </a:p>
        </p:txBody>
      </p:sp>
      <p:sp>
        <p:nvSpPr>
          <p:cNvPr id="337" name="PlaceHolder 5"/>
          <p:cNvSpPr>
            <a:spLocks noGrp="1"/>
          </p:cNvSpPr>
          <p:nvPr>
            <p:ph type="sldNum" idx="27"/>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147D-A899-4122-8DB1-6496A899F59D}" type="slidenum">
              <a:rPr b="0" lang="it-IT" sz="2400" spc="-1" strike="noStrike">
                <a:solidFill>
                  <a:srgbClr val="0d0d0d"/>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Mary Grace Cavallaro</a:t>
            </a:r>
            <a:endParaRPr b="0" lang="en-US" sz="3600" spc="-1" strike="noStrike">
              <a:solidFill>
                <a:srgbClr val="0d0d0d"/>
              </a:solidFill>
              <a:latin typeface="Bell MT"/>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Università degli Studi di Milano</a:t>
            </a:r>
            <a:endParaRPr b="0" lang="en-US" sz="3600" spc="-1" strike="noStrike">
              <a:solidFill>
                <a:srgbClr val="0d0d0d"/>
              </a:solidFill>
              <a:latin typeface="Bell MT"/>
            </a:endParaRPr>
          </a:p>
        </p:txBody>
      </p:sp>
      <p:sp>
        <p:nvSpPr>
          <p:cNvPr id="428"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1651b"/>
                </a:solidFill>
                <a:latin typeface="Bell MT"/>
              </a:rPr>
              <a:t>FLAG DAY JUNE 14TH</a:t>
            </a:r>
            <a:endParaRPr b="0" lang="en-US" sz="4800" spc="-1" strike="noStrike">
              <a:solidFill>
                <a:srgbClr val="0d0d0d"/>
              </a:solidFill>
              <a:latin typeface="Bell MT"/>
            </a:endParaRPr>
          </a:p>
        </p:txBody>
      </p:sp>
      <p:sp>
        <p:nvSpPr>
          <p:cNvPr id="42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original flag</a:t>
            </a:r>
            <a:endParaRPr b="0" lang="en-US" sz="4400" spc="-1" strike="noStrike">
              <a:solidFill>
                <a:srgbClr val="0d0d0d"/>
              </a:solidFill>
              <a:latin typeface="Bell MT"/>
            </a:endParaRPr>
          </a:p>
        </p:txBody>
      </p:sp>
      <p:sp>
        <p:nvSpPr>
          <p:cNvPr id="431" name=""/>
          <p:cNvSpPr txBox="1"/>
          <p:nvPr/>
        </p:nvSpPr>
        <p:spPr>
          <a:xfrm>
            <a:off x="324000" y="1197000"/>
            <a:ext cx="4319280" cy="49291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original Flag had 13 stripes: red and whit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se colors  represented the 13 original colonies and it was first flown on New Year’s Day in 1776 to celebrate the Army’s  formation. . </a:t>
            </a:r>
            <a:endParaRPr b="0" lang="en-US" sz="2800" spc="-1" strike="noStrike">
              <a:solidFill>
                <a:srgbClr val="0d0d0d"/>
              </a:solidFill>
              <a:latin typeface="Bell MT"/>
            </a:endParaRPr>
          </a:p>
        </p:txBody>
      </p:sp>
      <p:pic>
        <p:nvPicPr>
          <p:cNvPr id="432" name="Segnaposto contenuto 4" descr="34flag.jpg"/>
          <p:cNvPicPr/>
          <p:nvPr/>
        </p:nvPicPr>
        <p:blipFill>
          <a:blip r:embed="rId1"/>
          <a:stretch/>
        </p:blipFill>
        <p:spPr>
          <a:xfrm>
            <a:off x="4648320" y="2043000"/>
            <a:ext cx="4038480" cy="3640320"/>
          </a:xfrm>
          <a:prstGeom prst="rect">
            <a:avLst/>
          </a:prstGeom>
          <a:ln w="0">
            <a:noFill/>
          </a:ln>
        </p:spPr>
      </p:pic>
      <p:sp>
        <p:nvSpPr>
          <p:cNvPr id="43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404280"/>
            <a:ext cx="4038480" cy="572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 </a:t>
            </a:r>
            <a:r>
              <a:rPr b="0" lang="it-IT" sz="2800" spc="-1" strike="noStrike">
                <a:solidFill>
                  <a:srgbClr val="0d0d0d"/>
                </a:solidFill>
                <a:latin typeface="Bell MT"/>
              </a:rPr>
              <a:t>Betsy Ross made (actually sewed) the original flag with 13 stars and 13 stripes banner.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founding fathers did not offically adopt the flag until June 14, 1777, almost a year after the signing of the Declaration of Independanc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35" name="Segnaposto contenuto 4" descr="history flag.jpg"/>
          <p:cNvPicPr/>
          <p:nvPr/>
        </p:nvPicPr>
        <p:blipFill>
          <a:blip r:embed="rId1"/>
          <a:stretch/>
        </p:blipFill>
        <p:spPr>
          <a:xfrm>
            <a:off x="4643280" y="2060640"/>
            <a:ext cx="4038840" cy="3132000"/>
          </a:xfrm>
          <a:prstGeom prst="rect">
            <a:avLst/>
          </a:prstGeom>
          <a:ln w="0">
            <a:noFill/>
          </a:ln>
        </p:spPr>
      </p:pic>
      <p:sp>
        <p:nvSpPr>
          <p:cNvPr id="436"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260280"/>
            <a:ext cx="7489800" cy="583272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new flag had 13 white stars in a circle on a blue background with 13 red and white strip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represented the constellation of the State rising in the West.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blue background stood for the virtues of vigilance, perseverance and justic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were in a circle to represent the Union.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13 stripes stood for the 13 original coloni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color red symbolizes the newly formed country’s defiance  towards England and courag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hite symbolized purity and liberty.</a:t>
            </a:r>
            <a:endParaRPr b="0" lang="en-US" sz="2400" spc="-1" strike="noStrike">
              <a:solidFill>
                <a:srgbClr val="0d0d0d"/>
              </a:solidFill>
              <a:latin typeface="Bell MT"/>
            </a:endParaRPr>
          </a:p>
        </p:txBody>
      </p:sp>
      <p:pic>
        <p:nvPicPr>
          <p:cNvPr id="438" name="Picture 2" descr="F:\civilwar flag.jpg"/>
          <p:cNvPicPr/>
          <p:nvPr/>
        </p:nvPicPr>
        <p:blipFill>
          <a:blip r:embed="rId1"/>
          <a:stretch/>
        </p:blipFill>
        <p:spPr>
          <a:xfrm>
            <a:off x="4356000" y="5084640"/>
            <a:ext cx="2313000" cy="1489320"/>
          </a:xfrm>
          <a:prstGeom prst="rect">
            <a:avLst/>
          </a:prstGeom>
          <a:ln w="0">
            <a:noFill/>
          </a:ln>
        </p:spPr>
      </p:pic>
      <p:sp>
        <p:nvSpPr>
          <p:cNvPr id="43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first Flag Day</a:t>
            </a:r>
            <a:endParaRPr b="0" lang="en-US" sz="4400" spc="-1" strike="noStrike">
              <a:solidFill>
                <a:srgbClr val="0d0d0d"/>
              </a:solidFill>
              <a:latin typeface="Bell MT"/>
            </a:endParaRPr>
          </a:p>
        </p:txBody>
      </p:sp>
      <p:sp>
        <p:nvSpPr>
          <p:cNvPr id="441" name=""/>
          <p:cNvSpPr txBox="1"/>
          <p:nvPr/>
        </p:nvSpPr>
        <p:spPr>
          <a:xfrm>
            <a:off x="755280" y="1773360"/>
            <a:ext cx="6553080" cy="4597200"/>
          </a:xfrm>
          <a:prstGeom prst="rect">
            <a:avLst/>
          </a:prstGeom>
          <a:noFill/>
          <a:ln w="0">
            <a:noFill/>
          </a:ln>
        </p:spPr>
        <p:txBody>
          <a:bodyPr anchor="t">
            <a:normAutofit fontScale="94000"/>
          </a:bodyPr>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The first official Flag Day celebration was June 14th, 1861 Later in history, President Woodrow Wilson proclaimed June 14th as “Flag Day” in 1916.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d0d0d"/>
              </a:solidFill>
              <a:latin typeface="Bell MT"/>
            </a:endParaRPr>
          </a:p>
        </p:txBody>
      </p:sp>
      <p:pic>
        <p:nvPicPr>
          <p:cNvPr id="442" name="Picture 1" descr="F:\american-flag-clip-art-waving-waves.png"/>
          <p:cNvPicPr/>
          <p:nvPr/>
        </p:nvPicPr>
        <p:blipFill>
          <a:blip r:embed="rId1"/>
          <a:stretch/>
        </p:blipFill>
        <p:spPr>
          <a:xfrm>
            <a:off x="7272360" y="1341360"/>
            <a:ext cx="1871640" cy="1871640"/>
          </a:xfrm>
          <a:prstGeom prst="rect">
            <a:avLst/>
          </a:prstGeom>
          <a:ln w="0">
            <a:noFill/>
          </a:ln>
        </p:spPr>
      </p:pic>
      <p:sp>
        <p:nvSpPr>
          <p:cNvPr id="44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Some questions for follow up exercise:</a:t>
            </a:r>
            <a:br>
              <a:rPr sz="3600"/>
            </a:br>
            <a:endParaRPr b="0" lang="en-US" sz="3600" spc="-1" strike="noStrike">
              <a:solidFill>
                <a:srgbClr val="0d0d0d"/>
              </a:solidFill>
              <a:latin typeface="Bell MT"/>
            </a:endParaRPr>
          </a:p>
        </p:txBody>
      </p:sp>
      <p:sp>
        <p:nvSpPr>
          <p:cNvPr id="4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Find a synonym for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represent, along with the stars?</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was the first flag created and why?</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46" name="Segnaposto contenuto 5" descr="civilwar flag.jpg"/>
          <p:cNvPicPr/>
          <p:nvPr/>
        </p:nvPicPr>
        <p:blipFill>
          <a:blip r:embed="rId1"/>
          <a:stretch/>
        </p:blipFill>
        <p:spPr>
          <a:xfrm>
            <a:off x="5292720" y="2205000"/>
            <a:ext cx="3139920" cy="2022480"/>
          </a:xfrm>
          <a:prstGeom prst="rect">
            <a:avLst/>
          </a:prstGeom>
          <a:ln w="0">
            <a:noFill/>
          </a:ln>
        </p:spPr>
      </p:pic>
      <p:sp>
        <p:nvSpPr>
          <p:cNvPr id="447"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And now something about your country:</a:t>
            </a:r>
            <a:br>
              <a:rPr sz="3600"/>
            </a:br>
            <a:endParaRPr b="0" lang="en-US" sz="3600" spc="-1" strike="noStrike">
              <a:solidFill>
                <a:srgbClr val="0d0d0d"/>
              </a:solidFill>
              <a:latin typeface="Bell MT"/>
            </a:endParaRPr>
          </a:p>
        </p:txBody>
      </p:sp>
      <p:sp>
        <p:nvSpPr>
          <p:cNvPr id="449" name=""/>
          <p:cNvSpPr txBox="1"/>
          <p:nvPr/>
        </p:nvSpPr>
        <p:spPr>
          <a:xfrm>
            <a:off x="1258560" y="1773000"/>
            <a:ext cx="6132600" cy="428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of your flag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es the US flag have in common with your flag?</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is your flag flown in your country and wh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Do you have any type of similar patriotism in your countr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sp>
        <p:nvSpPr>
          <p:cNvPr id="4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51"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5:59:33Z</dcterms:created>
  <dc:creator>Your User Name</dc:creator>
  <dc:description/>
  <dc:language>en-US</dc:language>
  <cp:lastModifiedBy>Legion</cp:lastModifiedBy>
  <dcterms:modified xsi:type="dcterms:W3CDTF">2017-07-05T09:49:01Z</dcterms:modified>
  <cp:revision>20</cp:revision>
  <dc:subject/>
  <dc:title>FLAG DAY JUNE 14TH</dc:title>
</cp:coreProperties>
</file>